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104C6A-1068-4D00-BC7E-5A4030FED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1574CC-897A-46BC-9E9A-CCB7124D6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1BB860-88E8-4117-A6B2-7AD0C7194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E94244-A706-41AA-A728-59B4C0B9A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11045-A341-4C5F-9865-E49C0F0AF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661CE-AC33-4587-B709-B5BF6FB43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8C0AE-DA4A-4FC3-9E0C-9A33809EB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6FFE4-AED2-4679-B8A2-1EB5C71F6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79F06-1CD7-4F4C-8FD7-53A642690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68221-4907-4596-80F6-2AAF52B03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13757-36CE-4D7C-82E0-04CA0199F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F82D85-290D-411A-B56C-FFE0224E3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432ED-C7CF-41D1-90AE-8E52CDA0D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1BA64-CE79-4024-A123-C6DE380C9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A3F73-9289-4651-A09D-06D0C168B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4A369-0E5B-4BEF-9C74-5541DC282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DB824-DC76-479E-B652-6033597BA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40FF08-A7C6-4A0C-9DED-330C553C2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8984A3-3EA7-4807-B3FC-30223104B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4ED7DF-B57B-410C-B548-587BFE05B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A6305C-EF51-42EA-8730-9F2A69014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6178D9-40B1-48E3-9CB1-36BBF621F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035D36-09F7-4B52-87F4-B669FCF3C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F245B2-2B8F-46CC-B6B9-33FD33C4D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CAP_prj.ex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2A6CB-82C5-415C-A335-E368ED942E2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4560" y="0"/>
            <a:ext cx="1549440" cy="215748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673560" y="106200"/>
            <a:ext cx="40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 the mouse button to activate each presentation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0879F-D076-41C3-8542-0751B30E4CD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AP_prj.ex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AP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ryptographic Analysis Program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DFGVX Help Presenta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152280"/>
            <a:ext cx="914400" cy="127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94880" y="64771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nter or click on your mouse button to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ADFGVX Cipher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cipher involves to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ubstit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llowed by a transpositio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ubstitution involves a 6 x 6 square where the rows and columns are labeled by the letters ADFGV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se letters were selected because they are easy to distinguish as Morse cod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ransposition is a simple column transposition based on a key 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B51E16-7A4D-448C-86F4-E41B976EAC9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r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7132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6 letters and 10 digits are entered into a 6 x 6 matrix using a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986400" y="2971800"/>
            <a:ext cx="27867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D  F  G  V 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01680" y="3048120"/>
            <a:ext cx="259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Keyword:  when2go9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38200" y="350532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  h  e  n  2 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800600" y="3657600"/>
            <a:ext cx="329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Enter the keyword and then</a:t>
            </a:r>
            <a:br>
              <a:rPr sz="1800"/>
            </a:b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fill in the rest of the matrix</a:t>
            </a:r>
            <a:br>
              <a:rPr sz="1800"/>
            </a:b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using the unused letters and</a:t>
            </a:r>
            <a:br>
              <a:rPr sz="1800"/>
            </a:b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numbers in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444320" y="4070520"/>
            <a:ext cx="25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  9  3  a  b  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444320" y="4603680"/>
            <a:ext cx="25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  f  i  j  k  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442520" y="5159520"/>
            <a:ext cx="25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  p  q  r  s  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33160" y="5715000"/>
            <a:ext cx="25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u  v  x  y  z  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431360" y="6256440"/>
            <a:ext cx="25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  4  5  6  7  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6953400" y="6272280"/>
            <a:ext cx="100944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478B0A-0C7F-48CB-8EB8-3E0EC36A46C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entr" presetID="22" presetSubtype="8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1000"/>
                            </p:stCondLst>
                            <p:childTnLst>
                              <p:par>
                                <p:cTn id="19" nodeType="afterEffect" fill="hold" presetClass="entr" presetID="22" presetSubtype="8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2000"/>
                            </p:stCondLst>
                            <p:childTnLst>
                              <p:par>
                                <p:cTn id="23" nodeType="afterEffect" fill="hold" presetClass="entr" presetID="22" presetSubtype="8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6000"/>
                            </p:stCondLst>
                            <p:childTnLst>
                              <p:par>
                                <p:cTn id="27" nodeType="afterEffect" fill="hold" presetClass="entr" presetID="22" presetSubtype="8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3000"/>
                            </p:stCondLst>
                            <p:childTnLst>
                              <p:par>
                                <p:cTn id="31" nodeType="afterEffect" fill="hold" presetClass="entr" presetID="22" presetSubtype="8">
                                  <p:stCondLst>
                                    <p:cond delay="18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7300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21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bstit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47400" y="1774440"/>
            <a:ext cx="7615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letter and number in the plaintext is replaced by the letters on the column and row headings of the matr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986400" y="2971800"/>
            <a:ext cx="2970360" cy="3660120"/>
            <a:chOff x="986400" y="2971800"/>
            <a:chExt cx="2970360" cy="3660120"/>
          </a:xfrm>
        </p:grpSpPr>
        <p:sp>
          <p:nvSpPr>
            <p:cNvPr id="130" name=""/>
            <p:cNvSpPr/>
            <p:nvPr/>
          </p:nvSpPr>
          <p:spPr>
            <a:xfrm>
              <a:off x="986400" y="2971800"/>
              <a:ext cx="2786760" cy="36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A  D  F  G  V  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438200" y="3505320"/>
              <a:ext cx="237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w  h  e  n  2  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444320" y="4070520"/>
              <a:ext cx="251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O  9  3  a  b  c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444320" y="4603680"/>
              <a:ext cx="251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d  f  i  j  k  l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442520" y="5159520"/>
              <a:ext cx="251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m  p  q  r  s  t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433160" y="5715000"/>
              <a:ext cx="251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u  v  x  y  z  0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431360" y="6256440"/>
              <a:ext cx="251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1  4  5  6  7  8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4383720" y="4219560"/>
            <a:ext cx="408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laintext:   n   e   x   t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iphertext:   AG  AF  VF  G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6975360" y="6219720"/>
            <a:ext cx="1009800" cy="48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4E3533-D408-4709-A122-10AF712CD98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pos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7485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a column transposition with a keyword, the ciphertext is written in rows and then read in columns in a specified ord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311120" y="4322880"/>
            <a:ext cx="1689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1 2 3 4 5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A F A G G 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X G F X D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V A A D X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F G D G X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A F G A V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270240" y="5178600"/>
            <a:ext cx="259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57920" y="4707000"/>
            <a:ext cx="2558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ad down columns in or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3 – 6 - 1- 2 – 5 -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027480" y="4884840"/>
            <a:ext cx="251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AFADG VXXGG AXVFA</a:t>
            </a:r>
            <a:br>
              <a:rPr sz="1800"/>
            </a:b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FGAGF GDXXV GXD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7083360" y="612468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36E1BB-FA43-4DF8-93FF-7EE7301E7AA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umn K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7880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key for a column transposition is the number of columns and the order in which they are selected both of which are determined by a keywor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example, the keyword “general” defines a column transposition with 7 columns because it has 7 letter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define the order of columns assign each letter a number based on its order in the alphab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719880" y="5411880"/>
            <a:ext cx="374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Courier New"/>
              </a:rPr>
              <a:t>g e n e r a 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460560" y="60148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308120" y="60148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412960" y="60148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755520" y="60148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032240" y="60148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841280" y="60148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08320" y="60339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361800" y="6064200"/>
            <a:ext cx="1009800" cy="48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E1B14B-7A34-46D1-9A50-6A6816C7E45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3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3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3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3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3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3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3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3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3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3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3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C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5334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 ADFGVX cipher from the cipher men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2727360" y="2962440"/>
            <a:ext cx="5691240" cy="36954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6756480" y="3432240"/>
            <a:ext cx="1238040" cy="696960"/>
          </a:xfrm>
          <a:prstGeom prst="wedgeRoundRectCallout">
            <a:avLst>
              <a:gd name="adj1" fmla="val -42819"/>
              <a:gd name="adj2" fmla="val 106037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keyword sets up the matr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232760" y="4452840"/>
            <a:ext cx="1384200" cy="851040"/>
          </a:xfrm>
          <a:prstGeom prst="wedgeRoundRectCallout">
            <a:avLst>
              <a:gd name="adj1" fmla="val -43578"/>
              <a:gd name="adj2" fmla="val 95893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keyword sets up column trans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>
            <a:hlinkClick r:id="" action="ppaction://hlinkshowjump?jump=endshow"/>
          </p:cNvPr>
          <p:cNvPicPr/>
          <p:nvPr/>
        </p:nvPicPr>
        <p:blipFill>
          <a:blip r:embed="rId2"/>
          <a:stretch/>
        </p:blipFill>
        <p:spPr>
          <a:xfrm>
            <a:off x="193680" y="620568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F6D50A-75A1-4322-ABCC-AD4CD61DCDC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51:43Z</dcterms:created>
  <dc:creator>Richard Spillman</dc:creator>
  <dc:description/>
  <dc:language>en-US</dc:language>
  <cp:lastModifiedBy>Richard Spillman</cp:lastModifiedBy>
  <dcterms:modified xsi:type="dcterms:W3CDTF">2002-06-19T01:54:56Z</dcterms:modified>
  <cp:revision>40</cp:revision>
  <dc:subject/>
  <dc:title>CAP Cryptographic Analysis Program</dc:title>
</cp:coreProperties>
</file>